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96E2-870F-4937-9266-71DBBA9B5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9412-2546-47ED-ABE0-CCEB03457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5FA1-C946-4525-8617-992859418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A125-6C4C-4220-A87F-7988A2628B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7123-8182-4D06-9676-949F05019F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CB33-09BF-4741-89CC-FA7374829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9741-2A70-4D54-8F4B-C5D1F1C67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5F64-5102-42EB-BE27-387AE062E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44AB-B1A8-4132-B1DD-0A7A3F331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7451-AE4E-45AE-95AC-63CDA85D0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A268-1FA5-48CF-8FE9-EFE91FE2F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6473-C17A-4F9E-BB8D-B8E234781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F7222B-0CB0-4C55-AEC4-8602D03B7422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Стоматологиј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10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65240" y="3022560"/>
            <a:ext cx="520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ВАЛИДНОСТ И ЗНАЧАЈ ДОКАЗ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О НЕЖЕЉЕНИМ ДЕЈСТВИ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докази о нежељеним дејствима валид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групе болесника у студији биле у свему слич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изузев у изложености новом ле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ефекти и нежељена дејства регистровани на исти начин у обе груп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пацијенти праћени комплетно и довољно дуг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докази о нежељеним дејствима валидн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резултати задовољава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неке дијагностичке тестове за узрочно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 ли је јасно да је излагање леку претходило појави нежељеног дејств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 ли постоји веза између дозе и ефект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остоје ли подаци који говоре о повлачењу нежељеног ефекта после прекида примене лека или о поновној појави нежељеног ефекта после поновне примене ле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 ли је асоцијација лека и нежељеног ефекта конзистентна од студије до студиј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 ли постоји биолошко објашњење асоцијациј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резултати студије о нежељеним дејствима клинички значај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Потребно је израчунати релативно и апсолутно повећање ризика код клиничких студије или кохортних студ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Значајно релативно повећање ризика је 3 пута или ви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ејс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нтрол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тудиј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рачунат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s rat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начајан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s rati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снову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псолутног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ећањ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рачунати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Needed to Harm (100/APR)    *APR=апсолутно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већање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Како израчунати релативни ризик и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dds rati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28760" y="2071800"/>
          <a:ext cx="8275680" cy="300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071800"/>
                    <a:ext cx="82756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3-01-27T14:04:03Z</dcterms:modified>
  <cp:revision>57</cp:revision>
  <dc:subject/>
  <dc:title>Slide 1</dc:title>
</cp:coreProperties>
</file>